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45F-6B7C-428A-A6BE-E1A24A9B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6AF-1C5C-44DC-A20A-9DA6EAFC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983-8406-41D8-96A8-A2704162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2AA7-F5EB-448E-8BB6-430BB50D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21F4-BE9A-48DC-8356-5B3DE417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FAF9-9776-4313-8FE0-49FF50B8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BA6-C8EF-41E2-A38C-BAFEB08B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5D9A-96CA-42CC-9F33-AC28BFCC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137-081F-4FDE-8417-821EDB66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4B8-B61B-46DD-ABE8-36141A21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8949-F4C8-4DB7-864E-526A5C05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30E2-1C68-4679-9C44-51317DC4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4F4F-8A55-4F6D-9E9D-DBB2D76B4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m Jong-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Kim Jong-il (undated image, released by Korean Central News Agency in August 2008) "/>
          <p:cNvPicPr/>
          <p:nvPr/>
        </p:nvPicPr>
        <p:blipFill>
          <a:blip r:embed="rId1"/>
          <a:stretch/>
        </p:blipFill>
        <p:spPr>
          <a:xfrm>
            <a:off x="152280" y="1828800"/>
            <a:ext cx="3724560" cy="4648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Kim Jong-il"/>
          <p:cNvPicPr/>
          <p:nvPr/>
        </p:nvPicPr>
        <p:blipFill>
          <a:blip r:embed="rId2"/>
          <a:stretch/>
        </p:blipFill>
        <p:spPr>
          <a:xfrm>
            <a:off x="4038480" y="2209680"/>
            <a:ext cx="48769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635040"/>
            <a:ext cx="777240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198360"/>
            <a:ext cx="838224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ock North Korean Scud-B missile, left, and other South Korean missiles are displayed at Korea War Memorial Muse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1_South_Korea_Koreas_Nuclear.sff.jpg"/>
          <p:cNvPicPr/>
          <p:nvPr/>
        </p:nvPicPr>
        <p:blipFill>
          <a:blip r:embed="rId1"/>
          <a:stretch/>
        </p:blipFill>
        <p:spPr>
          <a:xfrm>
            <a:off x="1447920" y="457200"/>
            <a:ext cx="54864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ock North Korean Scud-B missile, center, and other South Korean missile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ed at Korea War Memorial Muse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2_South_Korea_Koreas_Nuclear.sff.jpg"/>
          <p:cNvPicPr/>
          <p:nvPr/>
        </p:nvPicPr>
        <p:blipFill>
          <a:blip r:embed="rId1"/>
          <a:stretch/>
        </p:blipFill>
        <p:spPr>
          <a:xfrm>
            <a:off x="2514600" y="228600"/>
            <a:ext cx="3395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ral North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outh Korean holds banner attached with pictures of North Korean leader Kim Jong Il and North's missiles during a rally held against North Korea's rocket launch in Seoul, South Kor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3_South_Korea_Koreas_Nuclear.sff.jpg"/>
          <p:cNvPicPr/>
          <p:nvPr/>
        </p:nvPicPr>
        <p:blipFill>
          <a:blip r:embed="rId1"/>
          <a:stretch/>
        </p:blipFill>
        <p:spPr>
          <a:xfrm>
            <a:off x="990720" y="533520"/>
            <a:ext cx="662940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in Seoul, South Korea, protested on Thursday against the North’s scheduled rocket launch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orth Korean soldier on a recent patrol near North Korea’s border with China. The United States is relying on China to persuade the North to rejoin talks over the North’s nuclear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3818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5:15:56Z</dcterms:created>
  <dc:creator>ws12001</dc:creator>
  <dc:description/>
  <dc:language>en-US</dc:language>
  <cp:lastModifiedBy>ws12001</cp:lastModifiedBy>
  <dcterms:modified xsi:type="dcterms:W3CDTF">2009-05-06T15:18:13Z</dcterms:modified>
  <cp:revision>3</cp:revision>
  <dc:subject/>
  <dc:title>Kim Jong-il</dc:title>
</cp:coreProperties>
</file>